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828-08F3-445A-AC7F-7CFF48B2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2EC-6EE8-4207-A106-E27B9AE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AC280-A6E8-4F3F-B37A-C59BB4A3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B5C66-0300-41B6-B2C5-DC52AB78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850CC-EB16-4BB2-8D84-78AD17F8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D4F4B-039B-49AB-B0B5-63D4ED46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06B1A-CF51-4F60-B8DB-4BD1615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369FF-7651-4937-87CC-B13B7F7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C7507-CB5A-4F9E-B6F4-2859482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8D42-5DB8-4041-90E6-C13C0C6E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A2909-1DCA-44B1-9F8E-4C9F08FA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B630A-5F1E-409E-B81F-A9144498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C3F-609D-4F01-BC6A-3B162A0B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11905-D2BE-41DE-BDF2-DFE566A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46E83-C155-4AE5-8871-02A8C559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1273C-9237-401A-9793-48390894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BD29B-244F-4B11-B7E3-96A5E0A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79222-44F5-40C9-8093-433304B9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1BADB-43B3-4401-A953-2C13A5D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71250-A73D-42C7-AF3E-94FB431C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C1BBA-209D-4109-93F8-FFBE750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E4FE3-0343-459B-A4FA-A099D78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B3F3E-F6C8-4F42-A175-BF872AA1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02A-FDE7-4013-9440-E9A70C12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8554A-79B3-4303-BBAC-4CE5038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869BD-A310-40D4-82F9-536D3FD2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D25CD-3E40-4F27-858E-D622CA9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9C42B-3B98-4DFB-9517-051FB53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13C01-8EF5-4AF0-98E9-5A10B32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DA07-6006-42E7-A454-0BAEA817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1665-3CFF-44F1-A63F-9422C5B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107F-4FB8-4AEC-A259-2FBA7C8F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E9B74-C122-4D12-A8E7-0FAC145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CA9DC-18E4-4614-8C7B-D9A869F8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EB5-0695-4A4C-BD4D-8FCE0D1A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501FD-2D43-4146-9B95-6DD74D7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FE22E-CA6F-42E3-961F-3D5BA306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ED08-D9F7-4D9F-959E-7E76C4EB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C5C96-B789-49B6-92CE-5FFB0416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15EF9-08B6-41AD-AF0D-B1AAA90F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64C5F-A7E0-42ED-94BD-53BE5E6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2B85A-C8EC-42BF-A800-0C7D9DD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16B56-E70E-45E1-9D5C-7348D753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BFC87-FA30-45F2-AB72-C6538A71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075C5-596A-4E61-8DA7-C357736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B67-8C39-40D5-9C5E-ED2B1E1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4C7EA-001C-42E9-BB45-A30873B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83455-1DD1-4182-A238-EAC0733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09AC-19FD-4474-B13E-23A502F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02CF-C3DD-47CD-8C3D-12B12840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68DA9-8DB1-4F6A-A128-CB4EA90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B4BD8-B9F2-4F73-9E92-310986AD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D0AF1-4CBE-42EC-A59C-92AA9E6A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F3129-A9F4-4CA4-8545-3953148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2CF61-618B-43B7-BDC5-3246B08F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26B45-8DDF-40E0-B364-1049BCF2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8C5F-53BA-462B-85A3-BA8FE251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8C2BC-6985-4D70-B52D-88046DB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52C5B-4A44-42F0-8BAF-9657477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D4267-FAF3-48ED-9A78-9BC7B40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5DB5E-0B82-4A35-A455-CD451BE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C08D6-32F2-4977-B4CA-087C1AB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3F409-ED2A-41C4-B919-9751378C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2A9B4-E7F3-42E5-B766-19F0DD1C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3A1C2-3818-49B2-9ACB-B9C62862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235CB-8BE0-405D-93DF-38DA5711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F8A18-521D-4E0C-B1D2-B3DCEF9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B524-EB85-47B6-9162-7B34B35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64858-8086-46AC-9E23-171A32D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0590F-E5AE-4E6F-9491-60457C86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C5B1E-B1EB-4F1E-8F5D-3805869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05F5C-38CB-4CB1-AC27-0259072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AE870-2D93-4D37-988C-0946222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6F8A0-B151-477C-97CF-8E03E463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92584-F3D0-45D7-BDC5-C643C2A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55125-59A3-4741-BE14-E79375AE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5AFEC-09AE-4B13-9CE4-7CD6049A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D744E-B9FA-4F69-8606-2952626C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4AE2-6C20-4A37-86F4-ADD8BBFA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48F71-B616-4476-8C0D-1053F96A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075D1-EEA6-4672-A56B-2F2ACB8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A772F-69B2-43AD-BBEB-D8B68DD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A2C06-B1FE-4811-9ACB-95F1D39C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236BD-F497-4CC8-9519-C1E78B90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B63F3-77F7-4AF0-ADC9-EDDF752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BBC82-EC1E-452B-990C-4774DC4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F440C-A02D-4E59-AFD4-B221BF6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473F8-EBC3-48FA-A60C-F46C268E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67D62-9022-47CC-BC5F-81A15B23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3589-992F-4054-8B24-F760811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1D20E-FDAF-4A2A-B40C-B8F6342C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72E22-89EC-41FE-B9F0-A2D46D3F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9752F-424B-48D8-9AEA-AC35C9F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E2187-CEB2-4067-845E-F3BA688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E7F49-67F7-4DE3-A084-462482F9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F4257-6B0F-44C6-B5AD-7B74A20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3EFD8-B322-48F5-9B3E-9F46997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34D6B-6FCF-45F4-BEC0-8C423A4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6D570-10BB-48C1-AB74-6F2172A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6C9A5-3F37-4057-B1E5-6472F88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84A3-F94F-4223-9547-927B7A38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E3D0A-60C1-4E4E-85B5-5653A949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0420F-DFDD-4574-ADBF-8B32B648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40021-7D11-4439-B591-001A17A6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E0860-DE17-495E-816F-74EC384A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54F56-75F2-4E57-8697-7FA4656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31D78-184C-4FF1-A70E-069150A0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023DF-1567-4747-ADDD-4837B14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B65C2-2BF0-4FB8-BF2B-825D6DBD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772FF-D1C0-47A9-8364-6842F5B0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072CC-1756-4965-9160-6DFA9D7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288-0155-4956-A2F0-E7B7CBC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FE38-2014-4577-826C-7A2FF97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57DFA-D6F5-40B4-BACE-91F46E49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E9DA6-46B3-4D30-B6B0-65D23BC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50F8C-B93D-4CBE-9646-53E0D052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52EF7-57BA-4BE0-8B9E-16BB0FA3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15D64-8319-49DD-8E7A-9DBBDE41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D752E-6F95-45D5-8BC6-2098A6FA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29A8B-3E08-4218-A807-927A3666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1384F-E4A4-484B-A096-DF810E21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0BCED-E51A-4072-84F0-4ADED91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DCA4B-C67D-443C-A6D0-C561168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89E-D92E-422F-A66F-CF12A31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3F77C-ABA2-468E-90D3-4D41E423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B3320-EC47-4BE6-9A01-8EFCC67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0ABA9-6684-453D-A44C-39E63C3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109D8-6438-47A0-A746-1A8C5D7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8CB33-2913-4535-AD3C-212E34B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7F8258-B9B1-45C5-B529-2BFA765E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C4D33-0DFB-415C-8239-B1E3B3A7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41F954-7778-4CAF-AAE3-B972B5DD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E5FA2-3F45-425B-A9BE-958D8EA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EED09B-8F9B-4102-96B6-2519F15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E632-A922-4763-9907-E4972F5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0B899-B0DC-4B2C-9A50-C1095269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A9EE1-BAAB-4836-90F3-CB6FC076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366D0-D9E0-41DE-AFEA-601D3190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77F28-F706-45C9-A60C-4B71A2C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B0BD0-D270-472B-8FAA-57EBF9FE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9BE27-334A-45D6-BE57-E246A32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1CD3E-7022-462C-A08F-E636051F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1667C-4227-4D53-AA74-554F481E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CAA85-C255-4BC9-B2E9-60A0FE0F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0EC35-849E-4356-BFDF-795D3A71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274-8CA4-424D-8BC2-185620D7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F76DF-9D0B-48A0-A679-2CC8EEAB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7D0E6-22B2-4EF8-ACD3-FAFDE439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AF98D-0784-4FB5-955B-0B06C43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671DE-433C-4A7C-B2D1-1A9FA115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C15E7-D3BD-4326-9D60-F104494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9841E-367F-4E50-8788-818C43D8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8458D-63FC-4718-8A94-5184674C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38737-68FE-44B8-817A-E92682B2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3D52E-D4AA-44E8-94C4-8F05472A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EB45A-F578-4964-8138-C33E1ACD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C86B-4E99-4A02-BBB3-F63372E8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40929-5687-4967-8B06-73124639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52C719-583C-43AF-83B0-F7D2696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B742C-1956-4AB5-BFB9-94C2E775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4386A3-A1F4-400F-9392-96394BE5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D0855-8923-4682-850F-5BE1596D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A1862-6B76-4FC4-8392-425C0D71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0A103-9BC1-4A1E-88D5-9C0E79C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F7C47-BA05-45B5-904E-21936B5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83709F-0B74-4C8B-AC23-2AE98DD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C4DB1-EF99-42E6-B6DC-0982732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519C-4EF5-4EC5-9746-0A80F984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A9423-390F-4891-BDD0-4BB75DF4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251E7-6C87-4F66-9A0D-949F8657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4F125-2690-4030-8364-24AF5046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BEE552-703C-49D7-96A6-92F070B3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052DF-83BD-405A-80A5-2C602C85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4A0EC-9FDB-4F6D-B03E-A29271AF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6ABC2-83DD-447C-8549-F7FDB8B4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78B031-9288-411D-BA1F-000BA452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54B8A-AF3F-493E-8FBE-40AD1B9A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437ABD-7644-4825-B4F1-8ECE611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903D-0225-495A-A5D0-454ACD2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28266F-9CA6-405F-ABA7-3BC05D9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1E494D-E339-4C91-9050-C5C1FE9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29C6F-1554-473C-8790-2D0AC149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E5DF1-E5A9-4120-A740-3CAAA8C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CD0A31-F7F5-4419-8E0C-9613B534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640B22-D29D-45A4-A11A-2D152A56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216B0B-6414-47FF-AD47-FD9F26FD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6F453F-EC46-46D8-A8B6-6364162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767DF-EB72-4F2A-95B0-840E1052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6749E-7D26-42E4-937E-92C36446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5507-8E87-4FF6-9198-DD7ADD1D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EF30C9-FEF4-4B12-A01B-F0B8CEC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48E84-94A5-48BD-9F62-E883257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CF50D0-E5F5-4E1B-994B-8EB7FAD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837ABD-5765-4B2B-A674-933D72A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D9EA6F-1F46-406F-98A7-D58535B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1C1821-CB93-4DC2-98C4-7FCA0670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5FF82A-9FD4-4375-A6BE-A82C1E73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DF5DD6-7480-46BD-A658-E56C7443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95D887-B3D7-4F5C-B363-2A82E435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818D0-ED59-46A7-A89E-E2E2B555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4B46-4298-4127-A9B9-273218D7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1F9110-068B-4487-BB7F-7A0A15B1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5FDBF9-ABC9-44D9-926A-2EA66B7A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F3DCDC-9402-4B17-A631-325314F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FB7803-638E-4DBE-A9C4-733DD60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2DB5B6-F6D0-4F45-A3C4-9AF9A12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D766E1-42FC-4221-AE30-68C6D6C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56459-0E2D-40C6-8847-654A74E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F3350C-5D11-4EB4-851C-08950357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F04D99-6C63-4193-AB77-BFD0B31F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84F8D7-D95A-4A48-9BBA-0B4069D8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8BC2-7326-4EF2-91B1-71BA280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93B6F-39DA-4E57-AB63-95A1135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A08B5-7095-4369-807A-1E62207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4EFB4E-FDE9-41AE-ACE7-35F0ADDE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3AECC6-C88D-40A9-B8D5-A00CCB2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51B0EC-53DF-4F11-851F-8444A2FC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599A11-3A8A-4EF4-9FE6-0747CF6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F185A-A998-427B-AFE2-0285FAD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8AE879-8B6B-46EF-8FF9-882E7101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4F951B-CD0C-4F16-9E63-FFD1CB30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B4662D-E6DC-4AA3-B787-94C2B037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57A-08EC-4450-9FAA-AC44B0D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2100-DC9A-4C9A-AFB6-CB88447F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CCBB09-CBBB-4C65-8BAE-DCC6D584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AAE9EB-08FB-445B-BD2B-93F1C44C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E3B322-9ACF-4336-B1C8-6D008EC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1EFF8C-0331-49E5-9ECA-DD0D15ED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CD6E32-99DE-4025-9CA7-5BB9A3C1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BBF719-54CD-493E-A216-5D7DCB9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A5E35E-6D2A-4823-AD9F-F2036CBE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D45582-7C71-4359-B68E-D2EF448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37D956-AC71-4845-BBF9-A5CBB71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5CD673-0259-474B-A639-87C6E6E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A921-3DBC-4BC1-AA4F-AA8CD4F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AF903E-7304-43EE-8641-128B3CA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DE4081-80C6-43AA-A21D-51C5CCD4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B96913-2C51-4DF2-9A86-AD11DF8D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357A78-0646-4B1B-8C97-7DD3A19E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ECC774-C6EF-42D2-A0CE-F768973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4B8A58-6413-4AD8-963A-B25CDFD8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7FDCF2-419E-43DD-B7DD-E66C650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588E20-52C6-422C-A14F-927D0BB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8121F6-3BF2-4917-AF92-EE07858C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463097-07B7-4E0B-88F3-16789DF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D78C-1DB5-4613-81E7-9FD28A0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E21C2A-72F9-4E4A-B799-580E12A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11A569-C5F9-477F-B504-E10D3D7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0423E7-2BBA-4F5A-8474-5D48897D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18005A-BCF7-482E-A20B-20B85CC0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FC6493-6663-4787-BAA0-AC7C23F4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384B19-0D89-48B1-AAC4-09020747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FA4664-3215-4B7C-9138-12C877C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5F7B7C-1355-4BF5-8DAC-88171E0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31D8FD-2EF8-42B0-AE07-53E9A8B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E7C270-6320-4E00-824E-1D5710E7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4145-C8A0-40C2-9B99-26FAC97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129570-2670-4A84-A1B7-FDB4799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FFDEE2-1C56-4081-8B9C-5B6C0EB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C8B33D-3A1F-4A24-A4C0-7ADC28D6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5B1565-8BA1-4608-9B58-BA67E056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298A09-24D6-4934-BAC3-4CBBA7F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93F840-9F01-4138-BCD4-8BBB128E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BF2DB5-B380-4908-AF56-46E0821E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C194F9-617A-4B18-AD7F-D7D92E75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525727-DA64-4216-8EBD-E4CF92D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680BD3-52C2-4E9A-AC41-BB243824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B55C-BF71-4726-8067-B2DAAD3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A6A82C-0DEB-4FE6-950F-6580A3B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B9F2B0-3781-4D33-A8CE-3DE92370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572C15-8F98-445E-8C61-7E03B902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52EDAA-E988-4E7B-AEC1-688AA94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D7EE50-E852-4E13-80B4-4B79D467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063C18-28B0-4DCE-8976-FC48746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05BDAC-21A2-4778-BD2B-1144094A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9A4705-A190-4DF6-9BB5-692275E8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5D770A-AA2D-4B00-A84C-55D246D3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4DB614-CCBA-46F7-A02F-7643EA8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A381-FD7B-487B-80A1-ECC0D449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B20039-F6FA-490B-ADBC-B2380A72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523EA7-25FF-4902-BFF5-4C9742E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226892-DE11-4C8B-8128-426DCF2E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C9DE42-B78D-4685-9C7D-51EE2C3F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159067-8CFF-45F7-9CF7-868CAF3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C6016A-8368-4DDA-BAE0-BDB4A7C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7E6637-D2CD-4B36-874A-CCADE20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D75ADC-E67F-4D83-B0F9-FA01842E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FC1CB1-EA93-4F79-8404-A3A89881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341FBB-BA46-4A8D-917B-846C4FDA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FBD3-08C7-4A38-915B-2C7D2CF3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B32701-517E-4581-B252-3EDE8231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0985AC-29E9-4E84-8DD7-EDE4A3C1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F1C124-2E36-4732-9823-63A770C9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1F666D-4DAD-4C50-A2EE-534B66A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95E45A-1527-4EBE-829A-D8399F4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BF54AE-4397-4466-9DAA-93AE100B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338B1D-858B-454B-9E3A-D826940C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B03E31-448A-4BF5-8CC3-8C9FDFD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73745E-64D0-4711-8D8B-1D71FCD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12E9BA-0EF3-4BCB-A1B5-DD10D4D9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0B3D-77A6-4D44-B7DD-3E1D3016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A80DDA-C2CB-4F3D-A08E-4A1C803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4F8B99-F1C4-4D89-AD54-4746AF16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A18D26-ED34-45E1-B6CF-61A48F53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6184A6-2919-4F4D-B4D5-C93567D0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7A8E47-55E3-4BA3-8C42-5F6184B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54E4DB-3304-4C88-AAB2-FC3AD72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20ECAE-EE57-4FEC-AFE4-9570CB7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69E6F0-4E4E-49EF-AE96-982F4AD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C15B00-62BC-49D9-9F0A-751354C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AB300A-3BEA-4815-BCE2-A10683A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D266-147A-42B9-9C29-6849887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9A419A-3124-40DE-8E4D-8AD2BA3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F66982-EBE8-409E-A4B0-C0DF7BD1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5287C6-9EB1-4D2D-B510-AC57F8BB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217741-E220-421C-B9EE-F32BDE37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28971F-5A12-4299-B8B7-F45D93B7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56F949-C984-4DC0-887E-A96A609C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FF52B4-98F9-4D1A-B87D-5F718E5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D94036-6426-4423-86F6-5490C34E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032A47-3316-4005-A004-78282E51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B433FA-8F99-4A74-8FBF-6C7D1C4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0809-FD0B-44BE-9F77-21E8EB8C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A89925-56E1-4B35-8C10-EDEAC1D8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C10FCB-FF5F-4818-A9DA-9DA365F8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E39112-A4C3-4F67-BA99-16C6FF3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89C769-1A0A-411E-B0D9-504CB7D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C51044-9D04-496E-A91D-F407F606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4E7B84-0F2F-45C5-AC6C-6B160AB8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0F4FB3-8151-4853-9638-159A4B15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651C5F-60FC-4AA5-BCDB-729A83F5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5972E0-7178-4C8C-9303-E6D4CE6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7492AF-4734-4EE9-8F85-3A318F12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ADE-6088-4B7D-9098-CCDE9FA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02E6-D826-4527-8176-DE475D4F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715BFC-431B-4092-8642-1A69184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DC4DF8-5B24-40F7-B38B-6169435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EA8A64-AE7F-494F-A968-4918724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CCBB9C-465A-435F-A842-4B77BA3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B3AF2E-7039-4808-B3AF-3806DC3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28C6ED-F75E-4449-928B-6D7AAC6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3F315B-E4B3-4D38-A78A-D9750DA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48444E-15F5-4B38-B32F-739757F6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066798-1E62-4FAD-87FB-5FC2C634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C8FC9A-C5A8-4DB4-A200-BE476F93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23C24-91A1-4F16-846B-2F1DB6E7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31A5AD-2243-4D76-834C-DFE8EFF9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85D6D5-6020-462E-90A8-E285E70C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121787-10EE-4683-A3A2-2273A32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9221D8-8194-4C96-938F-D7FDAA02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F47025-44FB-4671-BB55-919A705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DD948E-2753-4420-BA9F-CAB1ACA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AE60DC-A7A6-42DC-8CE0-8355804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0E2A75-429B-4603-A38E-F006477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50B9CF-326A-4A23-97F5-A1EDEF70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4323C0-1F14-4553-8FA1-F8157D88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5C69-56FA-461E-BC6C-2194BDD2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2441A1-8373-4BA0-8115-EA185C77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E4D373-2B5F-4DF3-9C24-D536177D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4C7C32-C7BA-4CDB-83D6-2ABD8BEC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2BCF17-BFB0-4E33-BAAA-1DBB41A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3CE957-D549-440D-A0FE-F976A9C2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DAA67E-0872-4AFD-B22A-B31F0C5D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A3BAC1-0FB1-4946-AFD8-30F5C3B5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CD957B-5716-4373-BEEB-7590909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90ACC4-1DB8-4A5D-B198-69BFAAF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243542-4CE1-40AE-9B40-4B344F8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ADD6-23C4-4A9C-9EB4-72FAC6E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BDF4E0-3538-4DAF-9DF0-008A422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706040-47D6-4A42-B3B3-ED3A914C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43265F-F325-41D1-A412-1C0FB96F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3BE2-5B4F-4E6F-B71E-13AD751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CD52-A937-4DA2-A2E2-D873B751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8F19-2F2C-45E7-9680-0412EF86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66B7-7FCD-4AA9-BFF1-485FAE2D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3C94-9F86-4C45-9142-BA3E1F39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5729-1D7B-404D-8B61-B94A9595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A83-100F-4E05-BDDB-B42E6C0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A2AE-92A7-42D5-A7E7-CB9A744F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1439-9A97-4428-99C5-6059956A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2FAA-9280-4F66-984B-05E0B75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887D-E340-459B-8E5F-389CEE1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8A20-5946-4F7B-9464-7ADC663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60C4-44FA-40BA-97A1-B1B42CC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DD07-8670-4E91-8796-CC43232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23AF5-1809-44E2-B21F-892C83D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8284-9B1D-4F4A-8E3B-1DEC3B6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D800-DD20-4ECD-8FE1-491D2AD8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32C-173F-496E-A09A-33E4EEC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7B7E-ACE3-40ED-B8B0-7136D620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AB1F-36B3-4638-8DB4-909E829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0056C-0358-4D62-AEF1-3888CD30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5D44-A74B-4264-9BA5-AD63A72A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1E61-EFEF-48FE-8002-C8CBBF0A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CD8B5-7D41-4B37-B507-B1290C51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CAFB-3F8C-4003-A6CB-F0DE73D2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89FD-7345-4C62-8239-C6C05D44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5D25-493E-433F-A79B-72EBC5B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5FEC-6ADD-46F7-BA52-BB9F2CB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F48-595F-4AF2-813F-AA4DFC3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E35B-8B3F-4164-BE47-23A42918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0DA45-75BF-40F4-AE40-F9E31982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7E70-9DFC-449B-B6D2-E757CDBE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07DF-0A03-4EC4-B51C-5148C3B9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709A2-AE35-4908-B696-CB002DE4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45D76-0182-49E7-A1D9-D80F03C6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6F61-38E0-4E1C-B032-7D6CE94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0BEF-AAD9-4CF2-8DFA-78F33D6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C98C0-5854-43E8-86BC-86FD75B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C73A-1A62-4096-B052-18BDDF9C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E4A-1F7C-4372-A5ED-E848316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06FB1-0977-4737-9F8B-A699040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526A-1CBC-4408-B7A3-187CCEA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EE83-E14F-471E-B9D7-27359C90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704C-7A4F-4AB5-8CEC-B9FF3371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B71F8-64C2-4D87-8E18-45476B6F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82E7-A679-4AFF-AE0F-C9087148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02DCC-D745-4A26-A9A4-B4920F3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A7DE2-3F32-4E30-A121-310E301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17F06-9299-4F35-A254-278CA949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7B845-AC12-4465-A223-A6820B8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2FD-8917-40C7-8FA9-AFB0DA3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5EE6B-2C44-4CD3-BB67-EA44AEE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CC34-F0C8-4F70-AF92-271D4CC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B133-9C59-4ED9-B39B-3C37742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C292-FF17-439D-A49D-BC88975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29810-76C7-4935-82EF-3ACDDEC6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0C53-C5C4-4942-A6DE-758DF534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CE6B9-F429-4D95-8C6A-D37A4E2C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C026-1AA8-426E-A2B6-7D6D094F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06AD1-C179-457F-9920-3D93CE9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F85E-8F6B-45DC-BA7E-BB161A2D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A0CC-9F87-48C0-A9E3-BB41CC4E9D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CAB-9074-4B83-8360-67CDCD8CB2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FCE2-59C7-4928-B0E6-BA5F49089B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1D41-58F8-45D6-84AD-FE40CDE317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BD1-DC8F-4663-AC58-0CD4D092FD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0AD-5003-4F16-AA36-7EFC27456F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696-6BE1-4B2F-A644-8EFBE06BA1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18D7-A546-4782-92E7-2509370F25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8BF2-9B8E-47DF-A7D9-5929AAD45B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DF85-6294-461F-AB2D-BBA2252166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0B86-0C42-438B-9FCD-A45FDC37E8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0F8E-2E22-4BB5-BEA9-904D6072DE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589" name="Oval 3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5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1A6-9477-415E-A09C-ABA275D9C07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5269-67B5-4EA7-91FA-090A84978E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5C9-6AE9-43B1-9075-7A8F21D2145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43A3-E83B-429D-AAF1-846F055B1F8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5F01-1A2B-4F68-825E-35D7BD742EE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5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5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1C54-7622-4B2E-B5B0-37868C1F94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5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6DB-3554-4D4D-8D88-FFBE01F01B6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7DA-E997-470E-8C94-923BC16EE9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108-FA06-43E0-9667-243E96A2EAB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2B45-90D0-4256-A1DA-C9AB84B3ECB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43" name="Oval 4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87A-2145-4B56-9301-B40F79A6114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E421-D38B-47BB-84F3-63012170024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B59-394D-4628-BAD2-80515519DA9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6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1EF8-DF4E-46BF-BC1D-BCF2E0B2FA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EDD-7679-4DDF-BF72-07034A4ED8F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B89-461D-482A-8144-61BCF0B174C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117-BCD9-4890-93E9-8A528B9B8B8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379-8336-4497-9C65-94F6EDC0ED4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10B9-5BF6-465D-9D7F-066E63352D2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A85B-9DCB-44B9-AE38-73F71D33B33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7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92D-1E64-401D-B62D-A26B1B684F3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7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7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5080-EC76-4D36-BEC6-EF53136D16B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7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285-16C6-4B6B-BEB4-5D94B11E558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7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7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EC5-B9A9-43A6-8958-9C7B708071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1047" name="Oval 3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5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6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8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7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DD27-3F21-4AE5-B96B-357E0693D9F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7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7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0332-DFA0-4B2F-9008-4FAF5EF139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7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A14D-8A62-4F94-83D5-79967C1D28C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ftr" idx="8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sldNum" idx="8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896-2A68-4686-8C96-4E37AFF650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8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C2BF-E640-4D49-9F52-EF4A521BF6D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8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8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708-5EBA-42CA-8FE8-57A304ED76D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dt" idx="8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1048-DEFC-4BCF-887E-F3D68A6BF3A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ftr" idx="8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 type="sldNum" idx="8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52B-8CE4-45CC-8CEA-936B4FAEBA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91" name="Oval 4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6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7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D419-899F-4393-8F4A-00193A2AFF0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A48-4DD6-4538-919A-993968B1020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1501-A877-4B40-B4A8-7FAF5DC8B02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571A-1326-4D88-90A9-8EB5F7743D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dt" idx="9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B8AE-EC11-4B74-8DF0-81A1E0B4E3A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ftr" idx="9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sldNum" idx="9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5392-C950-4FE0-B4E1-135278F6039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9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1A3-F5A4-4095-8D8F-29E38F3768E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9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9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78B5-5F08-46DC-A3CC-B1F1A6F02A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 type="dt" idx="9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EA9-978A-4B2E-AEB3-6577E1CE241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 type="ftr" idx="9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 type="sldNum" idx="9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F52-7291-4A1B-9BD9-7ACC3C524F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10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869C-A571-414C-94CB-FCDFAA2B3B9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10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10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9882-49B4-4B18-94F9-E832F60485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0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D17-4505-4789-92BA-6DA87F46BB80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0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10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5AB-6B29-44A1-B7BE-21AA6BF57A6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 type="dt" idx="10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3E8-EC79-4BD2-B5AF-8C642B49B0B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 type="ftr" idx="10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 type="sldNum" idx="10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883-B4DA-4F8E-BD0C-1F6B09C17DC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F6E-27C1-486F-A7B1-5957CF2FDD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542-B2BE-41AA-B66A-13F5162579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008F-45D5-4F52-A3AE-2FFF6DB880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1D9E-8E04-4AA3-AE65-30D9228834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9EB-5F12-4E35-B233-71F50F8AAF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737-3CAF-4460-A2DA-E9EE176AE6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012A-74CE-467C-92B2-E533B4A2BF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543-3F40-4CAD-97C0-C774844634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055-490B-4F4E-83D8-FA75155DE7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4575-F9ED-4C98-8BB8-65C3EF3976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AA4B-3D9D-4D49-8AEF-1B68AE67A1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A3D-3DF4-4775-8BFB-536280EED9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组合 6150"/>
          <p:cNvGrpSpPr/>
          <p:nvPr/>
        </p:nvGrpSpPr>
        <p:grpSpPr>
          <a:xfrm>
            <a:off x="3471840" y="2297160"/>
            <a:ext cx="4806720" cy="1869840"/>
            <a:chOff x="3471840" y="2297160"/>
            <a:chExt cx="4806720" cy="1869840"/>
          </a:xfrm>
        </p:grpSpPr>
        <p:sp>
          <p:nvSpPr>
            <p:cNvPr id="1505" name="矩形 6151"/>
            <p:cNvSpPr/>
            <p:nvPr/>
          </p:nvSpPr>
          <p:spPr>
            <a:xfrm>
              <a:off x="3871440" y="2297160"/>
              <a:ext cx="3888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七单元 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1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文本框 6152"/>
            <p:cNvSpPr/>
            <p:nvPr/>
          </p:nvSpPr>
          <p:spPr>
            <a:xfrm>
              <a:off x="3471840" y="3067560"/>
              <a:ext cx="480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伯牙鼓琴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展延伸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9"/>
          <p:cNvSpPr/>
          <p:nvPr/>
        </p:nvSpPr>
        <p:spPr>
          <a:xfrm>
            <a:off x="2960640" y="1552680"/>
            <a:ext cx="672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9"/>
          <p:cNvSpPr/>
          <p:nvPr/>
        </p:nvSpPr>
        <p:spPr>
          <a:xfrm>
            <a:off x="1009800" y="1886040"/>
            <a:ext cx="9955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酒逢知己千杯少，话不投机半句多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欧阳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莫愁前路无知己，天下谁人不识君！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高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万两黄金容易得，知心一个也难求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曹雪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欲取鸣琴弹，恨无知音赏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孟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酒逢知己饮，诗向会人吟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《增广贤文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10"/>
          <p:cNvSpPr/>
          <p:nvPr/>
        </p:nvSpPr>
        <p:spPr>
          <a:xfrm>
            <a:off x="2862360" y="905040"/>
            <a:ext cx="55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微软雅黑"/>
              </a:rPr>
              <a:t>有关知音的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9"/>
          <p:cNvSpPr/>
          <p:nvPr/>
        </p:nvSpPr>
        <p:spPr>
          <a:xfrm>
            <a:off x="527040" y="907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思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8"/>
          <p:cNvSpPr/>
          <p:nvPr/>
        </p:nvSpPr>
        <p:spPr>
          <a:xfrm>
            <a:off x="1173240" y="1401840"/>
            <a:ext cx="107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微软雅黑"/>
              </a:rPr>
              <a:t>回顾全文，说说这篇课文的主题思想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6"/>
          <p:cNvSpPr/>
          <p:nvPr/>
        </p:nvSpPr>
        <p:spPr>
          <a:xfrm>
            <a:off x="547560" y="2706840"/>
            <a:ext cx="11276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这是一篇文言文，讲述了一个千古流传高山流水遇知音的故事。故事的主人公俞伯牙与锺子期的真挚情谊令人感动。表达了朋友间相互理解、相互欣赏的真挚友情，以及知音难觅，珍惜知音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矩形 9"/>
          <p:cNvSpPr/>
          <p:nvPr/>
        </p:nvSpPr>
        <p:spPr>
          <a:xfrm>
            <a:off x="496800" y="110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读思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5"/>
          <p:cNvSpPr/>
          <p:nvPr/>
        </p:nvSpPr>
        <p:spPr>
          <a:xfrm>
            <a:off x="1287360" y="2440080"/>
            <a:ext cx="962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微软雅黑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微软雅黑"/>
              </a:rPr>
              <a:t>伯牙与子期一个鼓琴，一个听之，他们相遇相知，文中哪里写到伯牙善鼓琴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矩形 9"/>
          <p:cNvSpPr/>
          <p:nvPr/>
        </p:nvSpPr>
        <p:spPr>
          <a:xfrm>
            <a:off x="537480" y="907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质疑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"/>
          <p:cNvSpPr/>
          <p:nvPr/>
        </p:nvSpPr>
        <p:spPr>
          <a:xfrm>
            <a:off x="0" y="1828440"/>
            <a:ext cx="46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微软雅黑"/>
              </a:rPr>
              <a:t>你有什么问题要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图片 7" descr="u=1026876638,809017149&amp;fm=27&amp;gp=0.jpg"/>
          <p:cNvPicPr/>
          <p:nvPr/>
        </p:nvPicPr>
        <p:blipFill>
          <a:blip r:embed="rId1"/>
          <a:stretch/>
        </p:blipFill>
        <p:spPr>
          <a:xfrm>
            <a:off x="449280" y="3035160"/>
            <a:ext cx="4210200" cy="3257640"/>
          </a:xfrm>
          <a:prstGeom prst="rect">
            <a:avLst/>
          </a:prstGeom>
          <a:ln w="0">
            <a:noFill/>
          </a:ln>
        </p:spPr>
      </p:pic>
      <p:sp>
        <p:nvSpPr>
          <p:cNvPr id="1571" name="矩形 8"/>
          <p:cNvSpPr/>
          <p:nvPr/>
        </p:nvSpPr>
        <p:spPr>
          <a:xfrm>
            <a:off x="5205240" y="1770120"/>
            <a:ext cx="654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微软雅黑"/>
              </a:rPr>
              <a:t>一位是身居高位，集古琴家、作曲家于一身的琴仙。一位是戴斗笠、披蓑衣、背扁担、拿扁担的樵夫。那是什么原因让这两位身份不同，地位悬殊的人走到了一起？那又是怎样的原因让伯牙死后毅然决然的破琴绝弦，终身不复鼓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微软雅黑"/>
              </a:rPr>
              <a:t>是古琴的魅力，是音乐的魅力，这就是艺术的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矩形 9"/>
          <p:cNvSpPr/>
          <p:nvPr/>
        </p:nvSpPr>
        <p:spPr>
          <a:xfrm>
            <a:off x="50724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置作业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5"/>
          <p:cNvSpPr/>
          <p:nvPr/>
        </p:nvSpPr>
        <p:spPr>
          <a:xfrm>
            <a:off x="1992240" y="2490840"/>
            <a:ext cx="670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微软雅黑"/>
              </a:rPr>
              <a:t>1.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微软雅黑"/>
              </a:rPr>
              <a:t>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微软雅黑"/>
              </a:rPr>
              <a:t>2.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微软雅黑"/>
              </a:rPr>
              <a:t>把这个故事讲给父母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导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9"/>
          <p:cNvSpPr/>
          <p:nvPr/>
        </p:nvSpPr>
        <p:spPr>
          <a:xfrm>
            <a:off x="3465360" y="971640"/>
            <a:ext cx="580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伯牙鼓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图片 10" descr="103.jpg"/>
          <p:cNvPicPr/>
          <p:nvPr/>
        </p:nvPicPr>
        <p:blipFill>
          <a:blip r:embed="rId1"/>
          <a:srcRect l="47619" t="38933" r="759" b="28532"/>
          <a:stretch/>
        </p:blipFill>
        <p:spPr>
          <a:xfrm>
            <a:off x="1994040" y="2422440"/>
            <a:ext cx="7453080" cy="4435560"/>
          </a:xfrm>
          <a:prstGeom prst="rect">
            <a:avLst/>
          </a:prstGeom>
          <a:ln w="0">
            <a:noFill/>
          </a:ln>
        </p:spPr>
      </p:pic>
      <p:sp>
        <p:nvSpPr>
          <p:cNvPr id="1512" name="TextBox 11"/>
          <p:cNvSpPr/>
          <p:nvPr/>
        </p:nvSpPr>
        <p:spPr>
          <a:xfrm>
            <a:off x="9883080" y="3017880"/>
            <a:ext cx="7898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俞伯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2"/>
          <p:cNvSpPr/>
          <p:nvPr/>
        </p:nvSpPr>
        <p:spPr>
          <a:xfrm>
            <a:off x="196200" y="3033720"/>
            <a:ext cx="139932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锺子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9"/>
          <p:cNvSpPr/>
          <p:nvPr/>
        </p:nvSpPr>
        <p:spPr>
          <a:xfrm>
            <a:off x="507960" y="870120"/>
            <a:ext cx="17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学习字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10"/>
          <p:cNvSpPr/>
          <p:nvPr/>
        </p:nvSpPr>
        <p:spPr>
          <a:xfrm>
            <a:off x="2163600" y="1552680"/>
            <a:ext cx="8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鼓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巍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汤汤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绝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终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图片 5" descr="103.jpg"/>
          <p:cNvPicPr/>
          <p:nvPr/>
        </p:nvPicPr>
        <p:blipFill>
          <a:blip r:embed="rId1"/>
          <a:srcRect l="47619" t="38933" r="0" b="28532"/>
          <a:stretch/>
        </p:blipFill>
        <p:spPr>
          <a:xfrm>
            <a:off x="6703920" y="3840120"/>
            <a:ext cx="548820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9"/>
          <p:cNvSpPr/>
          <p:nvPr/>
        </p:nvSpPr>
        <p:spPr>
          <a:xfrm>
            <a:off x="507960" y="870120"/>
            <a:ext cx="17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朗读指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10"/>
          <p:cNvSpPr/>
          <p:nvPr/>
        </p:nvSpPr>
        <p:spPr>
          <a:xfrm>
            <a:off x="666720" y="1552680"/>
            <a:ext cx="1123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巍巍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太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汤汤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流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钟子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死，伯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破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绝弦，终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不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鼓琴，以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无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复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鼓琴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图片 5" descr="103.jpg"/>
          <p:cNvPicPr/>
          <p:nvPr/>
        </p:nvPicPr>
        <p:blipFill>
          <a:blip r:embed="rId1"/>
          <a:srcRect l="47619" t="38933" r="0" b="28532"/>
          <a:stretch/>
        </p:blipFill>
        <p:spPr>
          <a:xfrm>
            <a:off x="6703920" y="3840120"/>
            <a:ext cx="548820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课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1"/>
          <p:cNvSpPr/>
          <p:nvPr/>
        </p:nvSpPr>
        <p:spPr>
          <a:xfrm>
            <a:off x="1820880" y="2058120"/>
            <a:ext cx="48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伯牙鼓琴，锺子期听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6"/>
          <p:cNvSpPr/>
          <p:nvPr/>
        </p:nvSpPr>
        <p:spPr>
          <a:xfrm>
            <a:off x="1550880" y="10684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体会文言文与现代文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1"/>
          <p:cNvSpPr/>
          <p:nvPr/>
        </p:nvSpPr>
        <p:spPr>
          <a:xfrm>
            <a:off x="1682640" y="2861280"/>
            <a:ext cx="60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指的是古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0" name="图片 8" descr="u=344307809,2592658212&amp;fm=27&amp;gp=0.jpg"/>
          <p:cNvPicPr/>
          <p:nvPr/>
        </p:nvPicPr>
        <p:blipFill>
          <a:blip r:embed="rId1"/>
          <a:stretch/>
        </p:blipFill>
        <p:spPr>
          <a:xfrm>
            <a:off x="7429680" y="3886200"/>
            <a:ext cx="47624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课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6"/>
          <p:cNvSpPr/>
          <p:nvPr/>
        </p:nvSpPr>
        <p:spPr>
          <a:xfrm>
            <a:off x="1344600" y="1417680"/>
            <a:ext cx="108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微软雅黑"/>
              </a:rPr>
              <a:t>现在请同学们结合课文注释，小组内合作，试着翻译全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1"/>
          <p:cNvSpPr/>
          <p:nvPr/>
        </p:nvSpPr>
        <p:spPr>
          <a:xfrm>
            <a:off x="622440" y="3561120"/>
            <a:ext cx="11393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伯牙弹琴，锺子期在一旁欣赏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伯牙开始用琴声抒发自己志在大山的情怀，锺子期情不自禁地感叹说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“弹得太好了，高昂激越，如登巍巍高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!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过了一会儿，伯牙又表达了自己志在流水的意向，锺子期又禁不住说：“弹得太好了，回旋跌宕，如临滔滔江河。”后来，锺子期不幸死去，伯牙把琴摔破，把弦扯断，终生不再弹琴，认为失去知音，世上便再无值得为之弹琴的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课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8"/>
          <p:cNvSpPr/>
          <p:nvPr/>
        </p:nvSpPr>
        <p:spPr>
          <a:xfrm>
            <a:off x="2033640" y="2857680"/>
            <a:ext cx="71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微软雅黑"/>
              </a:rPr>
              <a:t>试着用自己的话说一说故事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1"/>
          <p:cNvSpPr/>
          <p:nvPr/>
        </p:nvSpPr>
        <p:spPr>
          <a:xfrm>
            <a:off x="239760" y="2908440"/>
            <a:ext cx="1161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图片 6" descr="u=344307809,2592658212&amp;fm=27&amp;gp=0.jpg"/>
          <p:cNvPicPr/>
          <p:nvPr/>
        </p:nvPicPr>
        <p:blipFill>
          <a:blip r:embed="rId1"/>
          <a:stretch/>
        </p:blipFill>
        <p:spPr>
          <a:xfrm>
            <a:off x="7429680" y="3886200"/>
            <a:ext cx="47624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充拓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7"/>
          <p:cNvSpPr/>
          <p:nvPr/>
        </p:nvSpPr>
        <p:spPr>
          <a:xfrm>
            <a:off x="433440" y="1395360"/>
            <a:ext cx="112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微软雅黑"/>
              </a:rPr>
              <a:t>据记载，伯牙子期在一个的中秋之夜的雨后因琴声偶遇，因音乐而相知，他们彻夜长谈，不觉东方发白。伯牙子期洒泪而别。他们相约第二年八月十六日再相见。春去秋来，当伯牙满怀期待的赶来与子期相遇时，万万没有想到，面对的不是子期的人而是子期冰冷的墓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"/>
          <p:cNvSpPr/>
          <p:nvPr/>
        </p:nvSpPr>
        <p:spPr>
          <a:xfrm>
            <a:off x="520560" y="5371560"/>
            <a:ext cx="112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微软雅黑"/>
              </a:rPr>
              <a:t>锺子期死，伯牙破琴绝弦，终身不复鼓琴，以为世无足复为鼓琴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9"/>
          <p:cNvSpPr/>
          <p:nvPr/>
        </p:nvSpPr>
        <p:spPr>
          <a:xfrm>
            <a:off x="623520" y="792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1"/>
          <p:cNvSpPr/>
          <p:nvPr/>
        </p:nvSpPr>
        <p:spPr>
          <a:xfrm>
            <a:off x="228600" y="1507320"/>
            <a:ext cx="1184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微软雅黑"/>
              </a:rPr>
              <a:t>伯牙是当时著名的琴师，既是弹琴高手，又是作曲家，被人尊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微软雅黑"/>
              </a:rPr>
              <a:t>琴仙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微软雅黑"/>
              </a:rPr>
              <a:t>。再看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微软雅黑"/>
              </a:rPr>
              <a:t>破琴绝弦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微软雅黑"/>
              </a:rPr>
              <a:t>的行为，有什么想对伯牙说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/>
  <dc:description/>
  <dc:language>en-US</dc:language>
  <cp:lastModifiedBy>万润仪器贸易公司</cp:lastModifiedBy>
  <dcterms:modified xsi:type="dcterms:W3CDTF">2020-08-24T08:46:42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